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1394-33FC-4C62-9753-8E4CF1373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351E-5251-449D-B6F2-C0ED7BE03E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E3FA-2B82-44E7-AFD5-7A2B54559A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2436-92F9-4848-AC62-96AC71B4C2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D11A-659B-49B1-8AEC-D397BD9EC0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7D30-25B6-4E14-9776-58CDD226F1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35C4-9354-4E86-9519-380A91D74A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BD2E-865C-4ACE-B9F6-7F5969CB2F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64A7-46FB-495C-B21A-B90E48209C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A2F7-B941-457C-9BFD-145A16EF80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0688-AB36-41A6-A8EA-3D0A0BB05F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AB10E-5672-4644-85A7-F751CDE1B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72B1-3C8E-48CC-AEFC-CE4E36D75E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11114-D6FF-4988-9837-821AE472CE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9CFEE-596E-44D1-97BA-DDA2B0F02F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E775D-9251-4E54-A53C-B4AF901993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E5B42-3AA2-41AB-B431-C31CBE1EF3C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A0DC7-D224-4BFC-BCC7-FC29DD1946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3B0B0-D789-4E2C-BA29-E569B4F556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CB0C6-5C3A-4633-B407-C185F1FEFD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0D78A-23C6-4EB8-8896-52255E8879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0C5F6-7645-4CB4-807D-C0D53FF9DB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B4915-79B5-49E4-8283-0638F4B91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1AE7-B725-4DC9-A2F0-0C90DCEC8E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17D09-C9DD-4F89-8B8A-9575E9B7DB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8EDDD-53A3-480F-AE14-AD7A11DC99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5F451-5E09-437F-A70F-405578A94F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DCE1E-30FE-4FE8-BC89-EF4876C0BB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0B6ED-9F2D-463F-90F6-FF9E22625A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6298E-B76C-47B1-96D8-393B07A3FF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545C6-95E8-4854-8475-A6C8B8C57E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765A8-D57F-46E9-B71E-F7EB920A65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C2181-C47F-4547-8BF1-82162D40A7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EEECD-8467-4458-997C-9869C17C7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A979-B150-4F82-992C-1108D819947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31C97-047A-4171-A831-7C3B3872A2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F3846-B950-4605-BCDC-114B8F438F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FB5DD-A893-432B-A7FA-78F8F2AAB9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7B96-8276-4C07-84B8-A8953AD854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C3C1-B0D8-44C9-AC3B-CA36D74FA58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1A94-97F2-4DE2-BBCD-97DDBF8DC8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005B-8AB5-4353-B68D-0A25320AE14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0361-4474-46A1-BF51-63AADD2906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F6900-84B3-4B6B-9EA4-BCF5DC0524A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FA84-C28B-459C-8290-F3EF77EA1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8411-FBE6-4927-A8DB-97BB7DBC29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27B4-43C5-43DE-BC1C-AB7C05AA14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2C72-B76B-403B-9085-DBDFB8DA958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AA9A-CB9E-41C7-B45B-F87528BBF3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A274-454A-4108-B5C4-A29A17C7BA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C0EF-89C2-448B-B7A6-A3A0BBD62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1E0E-28B4-492E-85AD-D10D55289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4D60-5589-4A94-978F-E9FCFD2314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276F-16B0-4644-85AE-3DE3834E41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16CC-6F6D-4719-962A-03DC9A0DA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102E-A859-4091-A5BF-741BBC9B4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C519-3EE7-470D-884D-0F54BC45B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A24F-1F10-4D49-84A3-176B719E89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D36A-73BF-44D1-88E7-E9F13EA6CA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05F0-9283-4C92-8A12-AF860243B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FC40-6874-4975-9C25-BD94D42DAA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89A4-86F6-4D0D-9035-22D9D62942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C50-61DE-41B4-888E-BB8E861898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9A3-9AF6-48C0-A35A-D883FB3AAE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046-CAF2-40B4-BFF1-5B06A55A9D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AA0-8F76-462C-A89E-FACDAFB65A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FC5-B8FC-478C-8834-4C153912A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85F9-C27E-437E-BE86-069F9AC6BB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F62-12F3-4912-AB55-8EA17DED37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07C-829C-4F31-A914-B9EB26F85B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AA7-2269-4A20-B6E8-6C3946F1E1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823-7E3B-422F-9DB2-49B4737533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189-4CC9-4CE2-A43B-27FE9D64D7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D62-F228-432D-93F0-C69C019DAF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633-B6BE-4E60-823F-7BDF9D6A90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28E3-A3A7-4E15-9AE9-B910562B3E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E94B1-4CFA-479B-8EC3-13859D3CE4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83802-3FEF-4BB9-AC36-229F48A02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04D4-A9B4-4F7E-931C-D661B72DCA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7CAE1-03AE-49EE-9A48-A53046BF5F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51517-4BF6-418D-B07E-A2B2CD6DA3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E65AA-C2E4-4D65-8A62-7D0FFDCC52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9D067-260D-484C-9AE7-2CE9318E64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6569E-FF2E-45D6-971D-995FA8CF01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6609-77DB-4BCF-81C4-9E09913DB8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962B5-80EA-4EDF-87D9-E1364119A1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DF936-115C-4075-9535-0CB2904917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85B6-F049-46D2-96F9-89857FA64F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09500-502E-4636-B549-AE9535F38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4433-19C7-41DA-85F0-FF84912CCA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AF96-2E0F-4BB1-BF4E-8985F20EA0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4B46D-182F-4000-9E8A-AB82FF02F9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71F0E-4A14-4C95-B84C-81DF3DB5D0A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627DA-771E-4B83-85CB-A569658853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16B57-DE53-4579-9A2B-97F9CE06D2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E3A8-5BB7-44CC-A96E-1CE17D33AB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372E0-E099-437E-80E3-EF62F5A9A4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68891-8982-4F1B-A3B4-79E61DE4B7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C8EBA-7C33-4639-B34A-2DD65BB0E7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BDA1-3C0E-41A7-A984-A6F92D5A5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58F2-E4A6-4ED2-8263-2A3540B9A5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C24A5-1104-4568-9E4F-6845532E1F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0CE2-1541-4A99-A075-FFD7CB8B8C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9093-7631-4EBB-A874-35AD8E9C86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615C-61EA-4EE7-8803-33D3BFB4EE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6487-0616-4FCF-B5D1-10A1A5AA3A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B4B4-1CF2-4723-9CE6-CAD10846DC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B8EB-F56A-4CA7-92C2-5025563C5B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549-35CC-4D63-ACB9-95542AEB35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2EC-0B98-458E-A116-D586078DDC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28F-DB41-43D0-A530-0DABC34DB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03E2-401B-444B-BB14-2B06BE9DA0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5BCD-EFB0-44BA-98FC-072B623CE3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CA9D-808C-401B-8D87-FF0FA71D05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882-B3CF-4AE6-8471-839222BAB7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7E6A5-F32B-43D8-9200-4D3979FA5A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1C949-F277-45F3-B00A-B113DBE933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88047-2980-49BF-BF3D-EA1DC4E859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9A13D-9AD6-420E-BD3A-BB738CBF8B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2279D-715A-4441-8FA9-24B1B2EA32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3238E-A6B6-407F-A0E2-A4219F27B4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1CC0E-C743-4343-A49A-0B63A8237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D0D0-2B06-4836-880F-71A9547877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7AADB-5779-4801-B96C-6B575AF50F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4DBC8-B2F2-4F13-87D2-19FB515192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D1861-6FA3-4EBE-AF15-DF0F9AFF24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65B99-7D64-4608-8C47-9F5A9D7220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05688-42D9-4893-B192-365564A622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83288-C1CF-4324-8E2D-F3467AAAC1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0B860-0D58-46AD-A088-CD8E8070696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A35EB-CB1C-42D9-BB17-CBA9D238E6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FEE93-B3C3-4DEB-9399-0B6C70D6EB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1556F-5EC9-4BA9-B647-C8148F57A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E53A-4DF9-40A8-963D-A0EE51B37B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0F78D-B796-4AF7-A2CC-3D22B86AAC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77DF8-A676-4D05-85F3-04DC38BFF7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DDB6D-166B-4A82-BB1B-2BEAD85982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CF240-BC31-49DF-867C-C6E08ED6D9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E325A-6B63-4313-8689-15F3C6FB34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DEE52-102D-4EA0-A6B6-6C2AB40D37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7FE00-BBB0-4966-880D-790B611458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7A88-1F5D-4683-AEA7-01E698EE4C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DF63-CBE9-4EDB-BC38-6237F495D4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B659-A4CB-4238-ABC0-7AF3704D9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9280" y="9258120"/>
            <a:ext cx="3888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EEE63-2D71-4E53-9061-68F01882484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42C1A-0D29-45B6-8D5F-4FEC8BB0C3D9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CBD68-9B34-45CC-991D-CE44CAF31B4E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160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89C7B-23C6-4555-A7EF-36DDF339D61C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160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99917-1271-43AD-AF23-F26DE178FE3A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6960" y="35686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741D9-7735-464F-BBC6-8D82609A5F5F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6960" y="7180200"/>
            <a:ext cx="114267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88F9D-324E-4738-AABD-56CE440DF9E1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0" y="0"/>
            <a:ext cx="13001760" cy="9750600"/>
            <a:chOff x="0" y="0"/>
            <a:chExt cx="13001760" cy="9750600"/>
          </a:xfrm>
        </p:grpSpPr>
        <p:pic>
          <p:nvPicPr>
            <p:cNvPr id="15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1760" cy="97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1400" cy="60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7200"/>
            <a:ext cx="6245280" cy="357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5280" cy="127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B7DEB-B667-4D0A-8494-B28634A3ABE3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875EF-37B5-4833-A825-E4541D35C8A1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160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9359E-CF7B-4547-A895-EE46C387C9EA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CE366-F566-436C-B258-7F9EFF726C2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5640"/>
            <a:ext cx="367992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1B78F-7BEF-4179-B47A-26110DC8816C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EF4FB-8378-4AC0-886D-98D3C7A2259C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3920" y="2611080"/>
            <a:ext cx="11430000" cy="394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Elements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of the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Periodic Table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55D12-E88C-4D46-8855-6FD8A1EA10F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0CA15-F57D-40AB-B237-DB995C9CC7B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6500880" y="350352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3"/>
          <a:stretch/>
        </p:blipFill>
        <p:spPr>
          <a:xfrm>
            <a:off x="1346040" y="6672240"/>
            <a:ext cx="5535720" cy="1104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4"/>
          <a:stretch/>
        </p:blipFill>
        <p:spPr>
          <a:xfrm>
            <a:off x="419040" y="3782880"/>
            <a:ext cx="96516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AC266-3A32-4778-87B5-A5705CF91C44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9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8EA7-A855-4FEF-93E2-E08832071AD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1" lang="en-US" sz="36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8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are diatomic molecules</a:t>
            </a: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12B5-E52A-4278-AB09-44A3B200FCC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2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0BBA7-A286-4D6B-AA61-78DEE8792E74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6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2FACF-98F2-4ED5-B47F-85A93F231BB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CE83-0194-43EE-8323-97B7868D7B3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EF09-73DE-4B4D-9D11-089C91FB78E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of the known elements ar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E55BA-5377-4630-AC82-DB156F521F2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610D9-1B86-44D2-BCA3-5AC0EA0273F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3B87-E06F-4AD8-B366-5741B3B839A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A8676-9303-4E7C-ADC5-1E2B98BA322E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90640" y="322380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"/>
              </a:rPr>
              <a:t>An element is any substance that can not be broken down into simpler substances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B8C80-3969-4D5F-A701-3AAF7FB010D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4C92B-7749-49AA-AC4F-68D730DBF91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D9F1D-BC13-4E06-AACC-9EE5536CAF61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E0B29-F448-4D15-80B0-88A4DA01F37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grpSp>
        <p:nvGrpSpPr>
          <p:cNvPr id="493" name="Group 9"/>
          <p:cNvGrpSpPr/>
          <p:nvPr/>
        </p:nvGrpSpPr>
        <p:grpSpPr>
          <a:xfrm>
            <a:off x="4356000" y="6870600"/>
            <a:ext cx="428760" cy="1711440"/>
            <a:chOff x="4356000" y="6870600"/>
            <a:chExt cx="428760" cy="1711440"/>
          </a:xfrm>
        </p:grpSpPr>
        <p:sp>
          <p:nvSpPr>
            <p:cNvPr id="494" name="AutoShape 10"/>
            <p:cNvSpPr/>
            <p:nvPr/>
          </p:nvSpPr>
          <p:spPr>
            <a:xfrm>
              <a:off x="4356000" y="68706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5" name="AutoShape 11"/>
            <p:cNvSpPr/>
            <p:nvPr/>
          </p:nvSpPr>
          <p:spPr>
            <a:xfrm>
              <a:off x="4356000" y="82422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4356000" y="7353360"/>
            <a:ext cx="428760" cy="1635120"/>
            <a:chOff x="4356000" y="7353360"/>
            <a:chExt cx="428760" cy="1635120"/>
          </a:xfrm>
        </p:grpSpPr>
        <p:sp>
          <p:nvSpPr>
            <p:cNvPr id="497" name="AutoShape 13"/>
            <p:cNvSpPr/>
            <p:nvPr/>
          </p:nvSpPr>
          <p:spPr>
            <a:xfrm>
              <a:off x="4356000" y="735336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4356000" y="864864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A0AB0-7FBE-4044-8AA2-8F7FCA2BD21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 rot="5400000">
            <a:off x="4968720" y="393696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4" name="AutoShape 5"/>
          <p:cNvSpPr/>
          <p:nvPr/>
        </p:nvSpPr>
        <p:spPr>
          <a:xfrm rot="5400000">
            <a:off x="5343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5" name="AutoShape 6"/>
          <p:cNvSpPr/>
          <p:nvPr/>
        </p:nvSpPr>
        <p:spPr>
          <a:xfrm rot="5400000">
            <a:off x="5711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6" name="AutoShape 7"/>
          <p:cNvSpPr/>
          <p:nvPr/>
        </p:nvSpPr>
        <p:spPr>
          <a:xfrm rot="5400000">
            <a:off x="6080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7" name="AutoShape 8"/>
          <p:cNvSpPr/>
          <p:nvPr/>
        </p:nvSpPr>
        <p:spPr>
          <a:xfrm rot="5400000">
            <a:off x="6460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8" name="AutoShape 9"/>
          <p:cNvSpPr/>
          <p:nvPr/>
        </p:nvSpPr>
        <p:spPr>
          <a:xfrm rot="5400000">
            <a:off x="6854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9" name="AutoShape 10"/>
          <p:cNvSpPr/>
          <p:nvPr/>
        </p:nvSpPr>
        <p:spPr>
          <a:xfrm rot="5400000">
            <a:off x="7223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0" name="AutoShape 11"/>
          <p:cNvSpPr/>
          <p:nvPr/>
        </p:nvSpPr>
        <p:spPr>
          <a:xfrm rot="5400000">
            <a:off x="75783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1" name="AutoShape 12"/>
          <p:cNvSpPr/>
          <p:nvPr/>
        </p:nvSpPr>
        <p:spPr>
          <a:xfrm rot="5400000">
            <a:off x="79340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2" name="AutoShape 13"/>
          <p:cNvSpPr/>
          <p:nvPr/>
        </p:nvSpPr>
        <p:spPr>
          <a:xfrm rot="5400000">
            <a:off x="82897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3" name="AutoShape 14"/>
          <p:cNvSpPr/>
          <p:nvPr/>
        </p:nvSpPr>
        <p:spPr>
          <a:xfrm rot="5400000">
            <a:off x="86454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4" name="AutoShape 15"/>
          <p:cNvSpPr/>
          <p:nvPr/>
        </p:nvSpPr>
        <p:spPr>
          <a:xfrm rot="5400000">
            <a:off x="90136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5" name="AutoShape 16"/>
          <p:cNvSpPr/>
          <p:nvPr/>
        </p:nvSpPr>
        <p:spPr>
          <a:xfrm rot="5400000">
            <a:off x="936936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6" name="AutoShape 17"/>
          <p:cNvSpPr/>
          <p:nvPr/>
        </p:nvSpPr>
        <p:spPr>
          <a:xfrm rot="5400000">
            <a:off x="973764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7" name="AutoShape 18"/>
          <p:cNvSpPr/>
          <p:nvPr/>
        </p:nvSpPr>
        <p:spPr>
          <a:xfrm rot="5400000">
            <a:off x="1010592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8" name="AutoShape 19"/>
          <p:cNvSpPr/>
          <p:nvPr/>
        </p:nvSpPr>
        <p:spPr>
          <a:xfrm rot="5400000">
            <a:off x="1047420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9" name="AutoShape 20"/>
          <p:cNvSpPr/>
          <p:nvPr/>
        </p:nvSpPr>
        <p:spPr>
          <a:xfrm rot="5400000">
            <a:off x="10842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0" name="AutoShape 21"/>
          <p:cNvSpPr/>
          <p:nvPr/>
        </p:nvSpPr>
        <p:spPr>
          <a:xfrm rot="5400000">
            <a:off x="1121076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E56E-0127-4B60-89CF-7713540A1D65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2-03-05T13:16:45Z</dcterms:modified>
  <cp:revision>4</cp:revision>
  <dc:subject/>
  <dc:title>Elements of the Periodic Table</dc:title>
</cp:coreProperties>
</file>